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844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09AB-5E13-435E-BD6C-21D224423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4807-ED2F-4B81-9BC1-1E319EFBF110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142B-4573-4025-A383-D80CE0EAE14E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0693-6EA1-42DF-82BA-C5BB81C7CD6A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0C40-BC1E-4E0C-8509-6F004ACCB615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BCFE-4AE3-4C2F-9DA7-67EFDC94C17B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08E-0E3C-4E7C-B668-51F532A5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536-E293-495D-B747-B9EE8DC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DE8-2396-463D-BD05-2A03E5D1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0A5-CC5E-471F-ADB6-30B20227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74C1-54DB-461E-B463-2B5A5468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D44B-8A6F-4C37-ACA9-D98D26C9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7ACB-8713-481B-B4B4-19F9A732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6023-9595-41BE-ACF3-4F03D9BA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8524-20DE-4B3F-A220-BD4FF6CC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5F1D-3A50-483B-B6DD-D4786E5E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2AC2-A821-48FF-87BC-282FDF42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CA3-48C6-4E38-9F13-502BC126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EE12-7D60-47BD-B719-2D98D965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BB35-5A4F-46E4-AB95-7A90CE49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8E3F-E694-405D-B0E0-5F73B140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768A-7739-442C-A348-0AAAC3E7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A04F-558C-4593-8671-D2A847D9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445-0B2C-4C19-8334-E337378A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933-6C82-46CE-B20F-6D2ECE36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5A2-C36C-466B-84FC-C4582B50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E4E-3FC3-4E58-BFCE-75884588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ED8-1077-4FC6-90DB-E9902F00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2F9-6A01-4B13-8E26-B7CB93F7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271-63E2-408D-8477-9F93DF8D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DBFF-3445-4DE4-9FE1-BF6491EA60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80BB-E802-4C81-97F9-A10EC03163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put Prediction Logic (OPL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CE632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" y="5562720"/>
            <a:ext cx="548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ukasz Szafaryn and Blake Sheridan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04 Dec 07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ffects of Vari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57200" y="1447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 primarily affects the pull-up and pull-down of outputs shortly after CLK goes high (eval)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NMOS causes an output’s fall to zero to take too long, resulting in a loss of speed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PMOS results in a slower pull up, though the effect is less pronounc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ffects of Vari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2" name="Picture 2" descr="C:\Users\Gracjan\Desktop\cl_adder_1bit_B_OPL\snapshot2glitch.png"/>
          <p:cNvPicPr/>
          <p:nvPr/>
        </p:nvPicPr>
        <p:blipFill>
          <a:blip r:embed="rId1"/>
          <a:srcRect l="38645" t="60584" r="26028" b="24423"/>
          <a:stretch/>
        </p:blipFill>
        <p:spPr>
          <a:xfrm>
            <a:off x="304920" y="914400"/>
            <a:ext cx="4267080" cy="144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Gracjan\Desktop\cl_adder_1bit_B_OPL\snapshot2glitchSmall.png"/>
          <p:cNvPicPr/>
          <p:nvPr/>
        </p:nvPicPr>
        <p:blipFill>
          <a:blip r:embed="rId2"/>
          <a:srcRect l="40225" t="78227" r="27974" b="5900"/>
          <a:stretch/>
        </p:blipFill>
        <p:spPr>
          <a:xfrm>
            <a:off x="304920" y="2590920"/>
            <a:ext cx="426708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Gracjan\Desktop\cl_adder_1bit_B_OPL\snapshot2glitchBig.png"/>
          <p:cNvPicPr/>
          <p:nvPr/>
        </p:nvPicPr>
        <p:blipFill>
          <a:blip r:embed="rId3"/>
          <a:srcRect l="35927" t="60584" r="30749" b="23539"/>
          <a:stretch/>
        </p:blipFill>
        <p:spPr>
          <a:xfrm>
            <a:off x="304920" y="4191120"/>
            <a:ext cx="4267080" cy="13716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9"/>
          <p:cNvSpPr/>
          <p:nvPr/>
        </p:nvSpPr>
        <p:spPr>
          <a:xfrm>
            <a:off x="4724280" y="1447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varianc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724280" y="46483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nm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4724280" y="3048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pm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57200" y="144792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 is an interesting concept and an addition to traditional static logi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 can be applied to digital circuits to improve their speed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OPL to complex circuits is challenging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variation has a small effect on OPL performance – non-ideal transistors will slow down the circui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57200" y="9907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Murchie, L., Kio, S., Yee, G., Thorp, T., &amp; Sechen, C. (2000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put Prediction Logic: a High-Performance CMOS Desig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attle: 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n, S., McMurchie, L., &amp; Sechen, C. (2001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formance 64-bit Adder Implemented in Output Predi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ttle: 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Nish, R. , &amp; Nalam, S. (2003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 Performance Lo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wer 64 bit OPL-Static Ad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attle: Universit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4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n, Y., McMurchie, L., &amp; Sechen, C. (2005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formance CMOS Programmable Logic Cor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tt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" descr="MCj04077340000[1]"/>
          <p:cNvPicPr/>
          <p:nvPr/>
        </p:nvPicPr>
        <p:blipFill>
          <a:blip r:embed="rId1"/>
          <a:stretch/>
        </p:blipFill>
        <p:spPr>
          <a:xfrm>
            <a:off x="2971800" y="1143000"/>
            <a:ext cx="2975040" cy="28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Goal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Logic Family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PL Work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-bit CLA Adder with OP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Variation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ize ourselves with OP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a high-speed adder using OPL 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methodologies for designing OPL circuit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he effects of process variation on the adder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ew Logic Famil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105520" y="2743200"/>
            <a:ext cx="26668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209680" y="4800600"/>
            <a:ext cx="266724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rediction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H="1" flipV="1">
            <a:off x="2819160" y="3886200"/>
            <a:ext cx="22860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295280" y="2743200"/>
            <a:ext cx="26672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00400" y="990720"/>
            <a:ext cx="266688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2590560" y="2133720"/>
            <a:ext cx="1447560" cy="609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105520" y="2133720"/>
            <a:ext cx="1295280" cy="609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4038480" y="3886200"/>
            <a:ext cx="243864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81760" cy="2352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How OPL 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886200" y="914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5627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3915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1" name="Straight Arrow Connector 8"/>
          <p:cNvCxnSpPr/>
          <p:nvPr/>
        </p:nvCxnSpPr>
        <p:spPr>
          <a:xfrm flipH="1">
            <a:off x="388548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TextBox 10"/>
          <p:cNvSpPr/>
          <p:nvPr/>
        </p:nvSpPr>
        <p:spPr>
          <a:xfrm>
            <a:off x="380880" y="9144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recharge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3" name="Straight Arrow Connector 12"/>
          <p:cNvCxnSpPr/>
          <p:nvPr/>
        </p:nvCxnSpPr>
        <p:spPr>
          <a:xfrm flipH="1">
            <a:off x="556200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4" name="Straight Arrow Connector 13"/>
          <p:cNvCxnSpPr/>
          <p:nvPr/>
        </p:nvCxnSpPr>
        <p:spPr>
          <a:xfrm flipH="1">
            <a:off x="739080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5" name="TextBox 14"/>
          <p:cNvSpPr/>
          <p:nvPr/>
        </p:nvSpPr>
        <p:spPr>
          <a:xfrm>
            <a:off x="533520" y="1600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6" name="Straight Arrow Connector 15"/>
          <p:cNvCxnSpPr/>
          <p:nvPr/>
        </p:nvCxnSpPr>
        <p:spPr>
          <a:xfrm>
            <a:off x="1066680" y="2057040"/>
            <a:ext cx="6105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10"/>
          <p:cNvSpPr/>
          <p:nvPr/>
        </p:nvSpPr>
        <p:spPr>
          <a:xfrm>
            <a:off x="380880" y="4267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valuate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457200" y="3657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9" name="Straight Arrow Connector 18"/>
          <p:cNvCxnSpPr/>
          <p:nvPr/>
        </p:nvCxnSpPr>
        <p:spPr>
          <a:xfrm flipV="1">
            <a:off x="1065600" y="2894760"/>
            <a:ext cx="762840" cy="839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0" name="TextBox 4"/>
          <p:cNvSpPr/>
          <p:nvPr/>
        </p:nvSpPr>
        <p:spPr>
          <a:xfrm>
            <a:off x="32767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8769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23" name="Straight Arrow Connector 8"/>
          <p:cNvCxnSpPr/>
          <p:nvPr/>
        </p:nvCxnSpPr>
        <p:spPr>
          <a:xfrm flipV="1">
            <a:off x="3351600" y="3047760"/>
            <a:ext cx="229320" cy="121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" name="TextBox 10"/>
          <p:cNvSpPr/>
          <p:nvPr/>
        </p:nvSpPr>
        <p:spPr>
          <a:xfrm>
            <a:off x="32767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25" name="Straight Arrow Connector 12"/>
          <p:cNvCxnSpPr/>
          <p:nvPr/>
        </p:nvCxnSpPr>
        <p:spPr>
          <a:xfrm flipV="1">
            <a:off x="5180400" y="3047400"/>
            <a:ext cx="2293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Straight Arrow Connector 13"/>
          <p:cNvCxnSpPr/>
          <p:nvPr/>
        </p:nvCxnSpPr>
        <p:spPr>
          <a:xfrm flipV="1">
            <a:off x="7161840" y="3123360"/>
            <a:ext cx="22932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TextBox 14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28195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6553080" y="4343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ock Synchron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5105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ion in each stage is triggered by clock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36496" t="51783" r="35790" b="34346"/>
          <a:stretch/>
        </p:blipFill>
        <p:spPr>
          <a:xfrm>
            <a:off x="1523880" y="914400"/>
            <a:ext cx="5562720" cy="173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rcRect l="17657" t="13086" r="55370" b="62253"/>
          <a:stretch/>
        </p:blipFill>
        <p:spPr>
          <a:xfrm>
            <a:off x="1066680" y="2971800"/>
            <a:ext cx="333396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rcRect l="16887" t="62423" r="56140" b="12921"/>
          <a:stretch/>
        </p:blipFill>
        <p:spPr>
          <a:xfrm>
            <a:off x="5029200" y="297180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16-bit CLA Ad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2" descr="C:\Users\Gracjan\Desktop\16bit_adder.jpg"/>
          <p:cNvPicPr/>
          <p:nvPr/>
        </p:nvPicPr>
        <p:blipFill>
          <a:blip r:embed="rId1"/>
          <a:stretch/>
        </p:blipFill>
        <p:spPr>
          <a:xfrm>
            <a:off x="4419720" y="762120"/>
            <a:ext cx="4419360" cy="3562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Gracjan\Desktop\4bit_adder.jpg"/>
          <p:cNvPicPr/>
          <p:nvPr/>
        </p:nvPicPr>
        <p:blipFill>
          <a:blip r:embed="rId2"/>
          <a:srcRect l="18421" t="14084" r="15789" b="10814"/>
          <a:stretch/>
        </p:blipFill>
        <p:spPr>
          <a:xfrm>
            <a:off x="304920" y="2438280"/>
            <a:ext cx="3892320" cy="3581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Gracjan\Desktop\1_cl_adder.jpg"/>
          <p:cNvPicPr/>
          <p:nvPr/>
        </p:nvPicPr>
        <p:blipFill>
          <a:blip r:embed="rId3"/>
          <a:srcRect l="13158" t="29321" r="9652" b="26055"/>
          <a:stretch/>
        </p:blipFill>
        <p:spPr>
          <a:xfrm>
            <a:off x="380880" y="762120"/>
            <a:ext cx="3124440" cy="1455480"/>
          </a:xfrm>
          <a:prstGeom prst="rect">
            <a:avLst/>
          </a:prstGeom>
          <a:ln w="0">
            <a:noFill/>
          </a:ln>
        </p:spPr>
      </p:pic>
      <p:sp>
        <p:nvSpPr>
          <p:cNvPr id="139" name="Right Arrow 51"/>
          <p:cNvSpPr/>
          <p:nvPr/>
        </p:nvSpPr>
        <p:spPr>
          <a:xfrm rot="3220200">
            <a:off x="392040" y="25621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206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Right Arrow 52"/>
          <p:cNvSpPr/>
          <p:nvPr/>
        </p:nvSpPr>
        <p:spPr>
          <a:xfrm rot="18763200">
            <a:off x="4027320" y="2352960"/>
            <a:ext cx="1133280" cy="2761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206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Rounded Rectangle 53"/>
          <p:cNvSpPr/>
          <p:nvPr/>
        </p:nvSpPr>
        <p:spPr>
          <a:xfrm>
            <a:off x="1371600" y="34290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002060">
              <a:alpha val="2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2" name="Rounded Rectangle 54"/>
          <p:cNvSpPr/>
          <p:nvPr/>
        </p:nvSpPr>
        <p:spPr>
          <a:xfrm>
            <a:off x="5029200" y="1523880"/>
            <a:ext cx="914400" cy="685800"/>
          </a:xfrm>
          <a:prstGeom prst="roundRect">
            <a:avLst>
              <a:gd name="adj" fmla="val 16667"/>
            </a:avLst>
          </a:prstGeom>
          <a:solidFill>
            <a:srgbClr val="002060">
              <a:alpha val="2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4-bit CLA Adde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2" descr="C:\Users\Gracjan\Desktop\cl_adder_1bit_B\snapshot1.png"/>
          <p:cNvPicPr/>
          <p:nvPr/>
        </p:nvPicPr>
        <p:blipFill>
          <a:blip r:embed="rId1"/>
          <a:srcRect l="2252" t="77401" r="4056" b="0"/>
          <a:stretch/>
        </p:blipFill>
        <p:spPr>
          <a:xfrm>
            <a:off x="609480" y="762120"/>
            <a:ext cx="7925040" cy="125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Users\Gracjan\Desktop\cl_adder_1bit_B_OPL\snapshot1.png"/>
          <p:cNvPicPr/>
          <p:nvPr/>
        </p:nvPicPr>
        <p:blipFill>
          <a:blip r:embed="rId2"/>
          <a:srcRect l="0" t="60584" r="0" b="0"/>
          <a:stretch/>
        </p:blipFill>
        <p:spPr>
          <a:xfrm>
            <a:off x="533520" y="2133720"/>
            <a:ext cx="8153280" cy="2133360"/>
          </a:xfrm>
          <a:prstGeom prst="rect">
            <a:avLst/>
          </a:prstGeom>
          <a:ln w="0">
            <a:noFill/>
          </a:ln>
        </p:spPr>
      </p:pic>
      <p:sp>
        <p:nvSpPr>
          <p:cNvPr id="146" name="Oval 9"/>
          <p:cNvSpPr/>
          <p:nvPr/>
        </p:nvSpPr>
        <p:spPr>
          <a:xfrm>
            <a:off x="2133720" y="762120"/>
            <a:ext cx="761760" cy="266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3581280" y="762120"/>
            <a:ext cx="762120" cy="266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8" name="Picture 6" descr="C:\Users\Gracjan\Desktop\cl_adder_1bit_B_OPL\snapshot1glitch.png"/>
          <p:cNvPicPr/>
          <p:nvPr/>
        </p:nvPicPr>
        <p:blipFill>
          <a:blip r:embed="rId3"/>
          <a:srcRect l="40538" t="60584" r="29813" b="23539"/>
          <a:stretch/>
        </p:blipFill>
        <p:spPr>
          <a:xfrm>
            <a:off x="533520" y="5257800"/>
            <a:ext cx="2286000" cy="87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Users\Gracjan\Desktop\cl_adder_1bit_B_OPL\snapshot2glitch.png"/>
          <p:cNvPicPr/>
          <p:nvPr/>
        </p:nvPicPr>
        <p:blipFill>
          <a:blip r:embed="rId4"/>
          <a:srcRect l="45086" t="60584" r="29014" b="23539"/>
          <a:stretch/>
        </p:blipFill>
        <p:spPr>
          <a:xfrm>
            <a:off x="3124080" y="5257800"/>
            <a:ext cx="2057400" cy="90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C:\Users\Gracjan\Desktop\cl_adder_1bit_B\snapshot2.png"/>
          <p:cNvPicPr/>
          <p:nvPr/>
        </p:nvPicPr>
        <p:blipFill>
          <a:blip r:embed="rId5"/>
          <a:srcRect l="27342" t="77401" r="32884" b="8905"/>
          <a:stretch/>
        </p:blipFill>
        <p:spPr>
          <a:xfrm>
            <a:off x="533520" y="4343400"/>
            <a:ext cx="228600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Users\Gracjan\Desktop\cl_adder_1bit_B\snapshot2glitch.png"/>
          <p:cNvPicPr/>
          <p:nvPr/>
        </p:nvPicPr>
        <p:blipFill>
          <a:blip r:embed="rId6"/>
          <a:srcRect l="29044" t="78227" r="47367" b="5900"/>
          <a:stretch/>
        </p:blipFill>
        <p:spPr>
          <a:xfrm>
            <a:off x="3124080" y="4343400"/>
            <a:ext cx="2057400" cy="866880"/>
          </a:xfrm>
          <a:prstGeom prst="rect">
            <a:avLst/>
          </a:prstGeom>
          <a:ln w="0">
            <a:noFill/>
          </a:ln>
        </p:spPr>
      </p:pic>
      <p:cxnSp>
        <p:nvCxnSpPr>
          <p:cNvPr id="152" name="Straight Arrow Connector 17"/>
          <p:cNvCxnSpPr>
            <a:stCxn id="146" idx="4"/>
          </p:cNvCxnSpPr>
          <p:nvPr/>
        </p:nvCxnSpPr>
        <p:spPr>
          <a:xfrm flipH="1">
            <a:off x="1676160" y="3429000"/>
            <a:ext cx="838800" cy="9151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3" name="Straight Arrow Connector 18"/>
          <p:cNvCxnSpPr/>
          <p:nvPr/>
        </p:nvCxnSpPr>
        <p:spPr>
          <a:xfrm>
            <a:off x="3961440" y="3429000"/>
            <a:ext cx="191160" cy="9151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54" name="TextBox 20"/>
          <p:cNvSpPr/>
          <p:nvPr/>
        </p:nvSpPr>
        <p:spPr>
          <a:xfrm>
            <a:off x="6172200" y="4724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w/o OP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w OP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55" name="Straight Arrow Connector 21"/>
          <p:cNvCxnSpPr/>
          <p:nvPr/>
        </p:nvCxnSpPr>
        <p:spPr>
          <a:xfrm flipH="1" flipV="1">
            <a:off x="5181120" y="4776480"/>
            <a:ext cx="991440" cy="10080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6" name="Straight Arrow Connector 23"/>
          <p:cNvCxnSpPr/>
          <p:nvPr/>
        </p:nvCxnSpPr>
        <p:spPr>
          <a:xfrm flipH="1">
            <a:off x="5181120" y="5509080"/>
            <a:ext cx="991440" cy="19908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L Adder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990720"/>
            <a:ext cx="8381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 is very paralleliz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clock stage we saved about 0.5n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time for addition is input dependen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tested several combinations of inputs including the two which we deemed to be the best case and worst cas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 0000 0000 0000 + 0000 0000 0000 000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speedup of 1.2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 0000 0000 0001 + 1111 1111 1111 111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speedup of 1.125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1:38:55Z</dcterms:created>
  <dc:creator>⹅⹮⹧⹩⹮⹥⹥⹲⹩⹮⹧⹓⹴⹵⹤⹥⹮⹴ްएøˊÈ</dc:creator>
  <dc:description/>
  <cp:keywords/>
  <dc:language>en-US</dc:language>
  <cp:lastModifiedBy>Gracjan</cp:lastModifiedBy>
  <dcterms:modified xsi:type="dcterms:W3CDTF">2007-12-06T02:25:08Z</dcterms:modified>
  <cp:revision>143</cp:revision>
  <dc:subject/>
  <dc:title>EE625 Information Theory and Co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